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ignboar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Sign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C47E2-852A-4731-B318-9ED5248D6F3F}" type="slidenum">
              <a:rPr b="0" lang="en-US" sz="1200" spc="-1" strike="noStrike">
                <a:solidFill>
                  <a:srgbClr val="000000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1095-0B4D-470D-A480-9F28990842F2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20D1-655B-440D-AB0B-09CCC5D4802C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E972-CEC7-4E71-9A39-C7BD5D9FF7C7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EE19-6B62-4E06-B303-15CB472A3EC1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302F-7B70-438E-B72C-2BC8EE81EC08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D63D-256B-4E5F-B635-8A2DA2AE60CC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2F5D-B9AC-4990-A06A-AA295DDAB70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A8B1-1821-4419-AE4A-505157DCF1C8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DCAF-F361-40B2-A6F6-8F0D6E6D375C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981B-FA2E-45A7-A7C0-5E8B1DE663CE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0761-ABEB-44E3-A22D-1DFF1E001561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3AF7-1126-4AEB-A60F-A813E2355925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6156D-B36B-4D45-AD89-052C70AA1008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4720-535F-4B22-991F-1008368DF9BE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EC9F-1018-43DC-94B2-BA052B76F80A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5352-526A-4FB2-A6AF-414BB1C0D984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8BCC-B58D-41F5-9933-F012CE0E029D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2008-9AD3-459A-8FB9-B975F9E7B807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EDF50-CCEA-4ABE-B2E2-4D6A7FA93D8E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AC36-C2AA-4A63-9E38-ACC7C2DE38E4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9E92-007A-4B99-9792-5F93B523A25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85E8-A37C-4DB6-8FD1-65E56A37D42E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90CFD-BCD8-4D8C-819F-B2101CA97F94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D5BB-3068-4D57-AD26-D71E1B4FEE24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3249-D4EC-4007-8691-ABF5DC9C1BE4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B333-D0EA-4707-9847-008350D46257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9AA8-A3F6-4940-936B-32B112F9B7DA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3112-290F-4F26-B532-C2726655A75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E07D-23E9-49F2-A697-FD55DF432DF0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38C5-75C8-41BC-867A-811D707F9B46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6D95-CA6E-48D6-A683-853B90173C39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FA3E-F78D-4F72-9E10-92A4712EFA0D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96C2-7AC4-4DCF-ADBC-6E1C3F71C64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05BB-E216-4B81-989E-3EE96428AFA1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933A-0485-4A5E-8F6A-89679F6959E1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5F9C-85C7-4471-9D01-1E6A3150ED6B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18B2-1058-424A-A4A8-1D3A5643EB9C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799B-10B2-4775-819F-22A2C74A0F9C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F7C5-4306-41B6-8E9E-647CDEA25A9F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C60D-2FED-480B-B25C-F095982C2074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F762-1CF1-48F7-A818-9D9C44DFDDFA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8C21C-2EBD-45D0-8A33-E2B847426F34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40E8-FEFF-48DA-810D-0EA3BF754ED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AA42-C311-4F19-8459-ABC1F57EBB1A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1680-4E37-4BFC-BA4B-C027D66A6030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4B34-F0CF-4531-83B9-05B83698CAB3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9CC5-3528-4325-9268-08AD6E693BB5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0A41-855E-45EA-A193-C3AB7D25C59E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A8E1-F0A4-498A-971F-A0BF373A315F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262A-4D5D-4871-9B94-4BCD049EEA0A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436E-7EE3-4A5D-8704-A091B78388CA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2362-567F-4B8D-B22C-C3091CBD0131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1F58-E281-470B-8971-74392664CCAA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F8DD-D945-49D0-AFF7-E8E451DB9917}" type="slidenum">
              <a:rPr b="0" lang="en-US" sz="12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6696-0FE4-44D9-AF3B-90E2F59B5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C20C-3243-4CA2-A058-FE56E0F1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DD5-2936-4AA8-84FC-6C28EBFCD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EEC1-38FC-4991-8DB6-38DF8A3AD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FA8-B576-4354-AF9F-CB610969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067D-9AC1-4EAA-82E2-0C029C86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85F-5F03-43EC-A18B-B3726A9C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54F-2032-42C3-9CB2-F4199104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BC0C-C15E-4F11-811E-ABF7A56F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8B5D-72BF-4952-BA4D-F8E5F379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941-41A6-4065-A3B8-3106E3D5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CD4-BC69-49EA-8172-C9D1A69A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Sign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Sign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Sign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ignboar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Sign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Sign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Signboar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Sign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401F-D5E7-4B3C-A5E1-8955C8250E76}" type="slidenum">
              <a:rPr b="0" lang="en-US" sz="1400" spc="-1" strike="noStrike">
                <a:solidFill>
                  <a:srgbClr val="ffffff"/>
                </a:solidFill>
                <a:latin typeface="Signboar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ign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5.xml"/><Relationship Id="rId4" Type="http://schemas.openxmlformats.org/officeDocument/2006/relationships/slide" Target="slide35.xml"/><Relationship Id="rId5" Type="http://schemas.openxmlformats.org/officeDocument/2006/relationships/slide" Target="slide45.xml"/><Relationship Id="rId6" Type="http://schemas.openxmlformats.org/officeDocument/2006/relationships/slide" Target="slide4.xml"/><Relationship Id="rId7" Type="http://schemas.openxmlformats.org/officeDocument/2006/relationships/slide" Target="slide14.xml"/><Relationship Id="rId8" Type="http://schemas.openxmlformats.org/officeDocument/2006/relationships/slide" Target="slide27.xml"/><Relationship Id="rId9" Type="http://schemas.openxmlformats.org/officeDocument/2006/relationships/slide" Target="slide37.xml"/><Relationship Id="rId10" Type="http://schemas.openxmlformats.org/officeDocument/2006/relationships/slide" Target="slide47.xml"/><Relationship Id="rId11" Type="http://schemas.openxmlformats.org/officeDocument/2006/relationships/slide" Target="slide6.xml"/><Relationship Id="rId12" Type="http://schemas.openxmlformats.org/officeDocument/2006/relationships/slide" Target="slide19.xml"/><Relationship Id="rId13" Type="http://schemas.openxmlformats.org/officeDocument/2006/relationships/slide" Target="slide29.xml"/><Relationship Id="rId14" Type="http://schemas.openxmlformats.org/officeDocument/2006/relationships/slide" Target="slide39.xml"/><Relationship Id="rId15" Type="http://schemas.openxmlformats.org/officeDocument/2006/relationships/slide" Target="slide49.xml"/><Relationship Id="rId16" Type="http://schemas.openxmlformats.org/officeDocument/2006/relationships/slide" Target="slide8.xml"/><Relationship Id="rId17" Type="http://schemas.openxmlformats.org/officeDocument/2006/relationships/slide" Target="slide21.xml"/><Relationship Id="rId18" Type="http://schemas.openxmlformats.org/officeDocument/2006/relationships/slide" Target="slide31.xml"/><Relationship Id="rId19" Type="http://schemas.openxmlformats.org/officeDocument/2006/relationships/slide" Target="slide41.xml"/><Relationship Id="rId20" Type="http://schemas.openxmlformats.org/officeDocument/2006/relationships/slide" Target="slide51.xml"/><Relationship Id="rId21" Type="http://schemas.openxmlformats.org/officeDocument/2006/relationships/slide" Target="slide10.xml"/><Relationship Id="rId22" Type="http://schemas.openxmlformats.org/officeDocument/2006/relationships/slide" Target="slide23.xml"/><Relationship Id="rId23" Type="http://schemas.openxmlformats.org/officeDocument/2006/relationships/slide" Target="slide33.xml"/><Relationship Id="rId24" Type="http://schemas.openxmlformats.org/officeDocument/2006/relationships/slide" Target="slide43.xml"/><Relationship Id="rId25" Type="http://schemas.openxmlformats.org/officeDocument/2006/relationships/slide" Target="slide53.xml"/><Relationship Id="rId26" Type="http://schemas.openxmlformats.org/officeDocument/2006/relationships/image" Target="../media/image1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1981080"/>
          <a:ext cx="7772400" cy="430704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97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D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RNA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synthesis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Not like the other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Signboard"/>
                        </a:rPr>
                        <a:t>mutation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3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4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5" action="ppaction://hlinksldjump"/>
                        </a:rPr>
                        <a:t>$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6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7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8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9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0" action="ppaction://hlinksldjump"/>
                        </a:rPr>
                        <a:t>$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1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2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3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4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5" action="ppaction://hlinksldjump"/>
                        </a:rPr>
                        <a:t>$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6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7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8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19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0" action="ppaction://hlinksldjump"/>
                        </a:rPr>
                        <a:t>$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1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2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3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4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ccccff"/>
                          </a:solidFill>
                          <a:uFillTx/>
                          <a:latin typeface="Signboard"/>
                          <a:hlinkClick r:id="rId25" action="ppaction://hlinksldjump"/>
                        </a:rPr>
                        <a:t>$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Signboar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55" descr="dna---best_02"/>
          <p:cNvPicPr/>
          <p:nvPr/>
        </p:nvPicPr>
        <p:blipFill>
          <a:blip r:embed="rId26"/>
          <a:stretch/>
        </p:blipFill>
        <p:spPr>
          <a:xfrm>
            <a:off x="685800" y="163440"/>
            <a:ext cx="4724280" cy="1817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ignboard"/>
              </a:rPr>
              <a:t>DNA Jeopardy</a:t>
            </a:r>
            <a:endParaRPr b="0" lang="en-US" sz="6000" spc="-1" strike="noStrike">
              <a:solidFill>
                <a:srgbClr val="ffff00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 dna nucleotide is made of these three parts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7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Deoxyribose sugar,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Phosphate and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Nitrogeneous bas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ignboard"/>
              </a:rPr>
              <a:t>(accept sugar, phosphate and base)</a:t>
            </a: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is base chemical is only found in 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8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Uracil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gnboard"/>
              </a:rPr>
              <a:t>(also accept just u)</a:t>
            </a:r>
            <a:endParaRPr b="0" lang="en-US" sz="2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Double JEAPORDY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ign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How much do you wish to wager?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8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  <p:pic>
        <p:nvPicPr>
          <p:cNvPr id="90" name="Picture 5" descr="bd06504_"/>
          <p:cNvPicPr/>
          <p:nvPr/>
        </p:nvPicPr>
        <p:blipFill>
          <a:blip r:embed="rId1"/>
          <a:stretch/>
        </p:blipFill>
        <p:spPr>
          <a:xfrm>
            <a:off x="1905120" y="2743200"/>
            <a:ext cx="4724280" cy="3551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bd06145_"/>
          <p:cNvPicPr/>
          <p:nvPr/>
        </p:nvPicPr>
        <p:blipFill>
          <a:blip r:embed="rId2"/>
          <a:stretch/>
        </p:blipFill>
        <p:spPr>
          <a:xfrm>
            <a:off x="7238880" y="457200"/>
            <a:ext cx="1390680" cy="1758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bd06145_"/>
          <p:cNvPicPr/>
          <p:nvPr/>
        </p:nvPicPr>
        <p:blipFill>
          <a:blip r:embed="rId3"/>
          <a:stretch/>
        </p:blipFill>
        <p:spPr>
          <a:xfrm>
            <a:off x="304920" y="304920"/>
            <a:ext cx="139068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Double JEAPORDY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28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 molecule of rna has this shap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9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Double JEAPORDY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28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single helix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type of rna that is formed from one side of the dna cod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Messenger rna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(also accept mrna)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Carried by t-rna, these chemicals will end up being put together to make protein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0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If one side of the DNA strand is GTAATC, the other side will be th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mino acids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part of the cell that is producing 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the nucleolus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If the dna code being used is atgc,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</a:t>
            </a:r>
            <a:r>
              <a:rPr b="0" lang="en-US" sz="4800" spc="-1" strike="noStrike">
                <a:solidFill>
                  <a:srgbClr val="ffff00"/>
                </a:solidFill>
                <a:latin typeface="Signboard"/>
              </a:rPr>
              <a:t>t-rna</a:t>
            </a: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 code will be th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1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ugc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place in the cell where proteins are mad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2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the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ribosome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instructions to make the protein are in this molecul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31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DNA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 three-letter codon is made from m-rna, but it’s anticodon is made from th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3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Cattag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6" name="AutoShape 5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-rna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8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lso called polypeptides, there are made by attaching amino acids together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4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are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proteins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process of turning the dna code into a protein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4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ranslation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denin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Uracil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Guanin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phosphat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5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phosphate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gnboard"/>
              </a:rPr>
              <a:t>(it is not one of the bases in dna or rna)</a:t>
            </a:r>
            <a:endParaRPr b="0" lang="en-US" sz="2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-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Z-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R-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M-rn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61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z-rna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(not a type of rna molecule)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Griffith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very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Van leuwenhoek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atson and crick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6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A DNA strand 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Has this shap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5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o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Van leuwenhoek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gnboard"/>
              </a:rPr>
              <a:t>(not a dna scientist)</a:t>
            </a:r>
            <a:endParaRPr b="0" lang="en-US" sz="2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Duplic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ranscrip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ransl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replic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Duplicati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ignboard"/>
              </a:rPr>
              <a:t>(not a cell process)</a:t>
            </a:r>
            <a:endParaRPr b="0" lang="en-US" sz="32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Bas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Phosphat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Sugar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cod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7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 a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Cod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ignboard"/>
              </a:rPr>
              <a:t>(not a part of a nucleotide)</a:t>
            </a:r>
            <a:endParaRPr b="0" lang="en-US" sz="2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 mutation is a change in the code of this molecul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8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DNA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Base substitution, addition or deletion causes this type of mut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91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 a 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Point mutati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9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Most mutations will cause a change in the sequence of these protein-building chemicals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197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 a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Double helix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mino acids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0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his type of mutation occurs when a large part of a chromosome is missing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3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is a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Deleti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hese two mutations change the order of a large section of a chromosom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09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Translocation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Signboard"/>
              </a:rPr>
              <a:t>And inversion?</a:t>
            </a:r>
            <a:endParaRPr b="0" lang="en-US" sz="44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two side of the DNA molecule are held together by thes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5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ar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Hydrogen bonds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Answer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The process of making a new dna molecule from an old one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71" name="AutoShape 4">
            <a:hlinkClick r:id="" action="ppaction://hlinkshowjump?jump=nextslide"/>
          </p:cNvPr>
          <p:cNvSpPr/>
          <p:nvPr/>
        </p:nvSpPr>
        <p:spPr>
          <a:xfrm>
            <a:off x="7620120" y="533412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6492" y="3794"/>
                </a:moveTo>
                <a:lnTo>
                  <a:pt x="20505" y="10800"/>
                </a:lnTo>
                <a:lnTo>
                  <a:pt x="649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Signboard"/>
              </a:rPr>
              <a:t>Question</a:t>
            </a:r>
            <a:endParaRPr b="0" lang="en-US" sz="4400" spc="-1" strike="noStrike">
              <a:solidFill>
                <a:srgbClr val="ffff00"/>
              </a:solidFill>
              <a:latin typeface="Signboar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What is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ignboard"/>
              </a:rPr>
              <a:t>Replication?</a:t>
            </a:r>
            <a:endParaRPr b="0" lang="en-US" sz="4800" spc="-1" strike="noStrike">
              <a:solidFill>
                <a:srgbClr val="ffffff"/>
              </a:solidFill>
              <a:latin typeface="Signboard"/>
            </a:endParaRPr>
          </a:p>
        </p:txBody>
      </p:sp>
      <p:sp>
        <p:nvSpPr>
          <p:cNvPr id="74" name="AutoShape 4">
            <a:hlinkClick r:id="" action="ppaction://hlinkshowjump?jump=firstslide"/>
          </p:cNvPr>
          <p:cNvSpPr/>
          <p:nvPr/>
        </p:nvSpPr>
        <p:spPr>
          <a:xfrm>
            <a:off x="7620120" y="5486400"/>
            <a:ext cx="1295280" cy="1066680"/>
          </a:xfrm>
          <a:custGeom>
            <a:avLst/>
            <a:gdLst>
              <a:gd name="textAreaLeft" fmla="*/ 69120 w 1295280"/>
              <a:gd name="textAreaRight" fmla="*/ 1226160 w 12952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28" y="1400"/>
                </a:lnTo>
                <a:lnTo>
                  <a:pt x="1400" y="140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28" y="20200"/>
                </a:lnTo>
                <a:lnTo>
                  <a:pt x="24828" y="140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28" y="2020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28" h="21600">
                <a:moveTo>
                  <a:pt x="13114" y="3837"/>
                </a:moveTo>
                <a:lnTo>
                  <a:pt x="15690" y="6448"/>
                </a:ln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lnTo>
                  <a:pt x="20077" y="10800"/>
                </a:lnTo>
                <a:lnTo>
                  <a:pt x="18423" y="10800"/>
                </a:lnTo>
                <a:lnTo>
                  <a:pt x="18423" y="17989"/>
                </a:lnTo>
                <a:lnTo>
                  <a:pt x="7805" y="17989"/>
                </a:lnTo>
                <a:lnTo>
                  <a:pt x="7805" y="10800"/>
                </a:lnTo>
                <a:lnTo>
                  <a:pt x="6151" y="10800"/>
                </a:lnTo>
                <a:close/>
              </a:path>
              <a:path fill="darkenLess" w="26228" h="21600">
                <a:moveTo>
                  <a:pt x="15690" y="6448"/>
                </a:moveTo>
                <a:lnTo>
                  <a:pt x="15690" y="4707"/>
                </a:lnTo>
                <a:lnTo>
                  <a:pt x="17466" y="4707"/>
                </a:lnTo>
                <a:lnTo>
                  <a:pt x="17466" y="8224"/>
                </a:lnTo>
                <a:close/>
              </a:path>
              <a:path fill="darkenLess" w="26228" h="21600">
                <a:moveTo>
                  <a:pt x="12191" y="14299"/>
                </a:moveTo>
                <a:lnTo>
                  <a:pt x="14036" y="14299"/>
                </a:lnTo>
                <a:lnTo>
                  <a:pt x="14036" y="17989"/>
                </a:lnTo>
                <a:lnTo>
                  <a:pt x="18423" y="17989"/>
                </a:lnTo>
                <a:lnTo>
                  <a:pt x="18423" y="10800"/>
                </a:lnTo>
                <a:lnTo>
                  <a:pt x="7805" y="10800"/>
                </a:lnTo>
                <a:lnTo>
                  <a:pt x="7805" y="17989"/>
                </a:lnTo>
                <a:lnTo>
                  <a:pt x="12191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ignboar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7T18:02:20Z</dcterms:created>
  <dc:creator>Ashlee Logan</dc:creator>
  <dc:description/>
  <dc:language>en-US</dc:language>
  <cp:lastModifiedBy>Anne</cp:lastModifiedBy>
  <dcterms:modified xsi:type="dcterms:W3CDTF">2010-05-06T00:51:40Z</dcterms:modified>
  <cp:revision>35</cp:revision>
  <dc:subject/>
  <dc:title>JEOPARDY</dc:title>
</cp:coreProperties>
</file>